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D11-6417-4235-BA45-51623DED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4E-1D14-46FC-A608-637ED827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275-552E-4C3B-8A8D-886E1025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9E0-F64E-4073-AB73-5868D4CF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E27-6482-4C31-A802-F334A31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1A61-9A93-4E8C-892A-F056D60D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EA71-78FC-4FAA-8E98-9BB26A64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D1AA-3C19-4F44-A360-8C4A7640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996-68BC-4A17-A983-8052FBAC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A580-B71D-44D9-AD7A-44AD1E2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853-D60A-4EED-B629-D1E6A57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200-458F-43B3-B4DE-C683F0F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E0E-13A3-4B36-A901-B31C932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236E-D58A-4E40-B338-7D75A22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EBF-F4D2-4C57-83B7-14A55E3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550-8E81-4065-B38C-C0771834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F195-68FB-4EDC-9CB2-A4A0EC05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D23-8D45-49EC-A9E2-4122DD9D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A36-B52A-48F9-BC52-47837739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D81-E680-4C6F-ACA4-9FAFC3D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C31-9AAC-4556-8763-2041DF3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51C-0CBC-4CCA-B4AB-BFF67DC4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81A-9FBF-4D59-ADC6-B164136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9CF-EDB0-4F39-857F-281611A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767-ADA5-47A2-A2CA-12E66DA144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EDD-9C02-4B9D-9466-D22D44E621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anking_Massacre/" TargetMode="External"/><Relationship Id="rId2" Type="http://schemas.openxmlformats.org/officeDocument/2006/relationships/hyperlink" Target="http://www.historyplace.com/worldhistory/genocide/nanking.htm" TargetMode="External"/><Relationship Id="rId3" Type="http://schemas.openxmlformats.org/officeDocument/2006/relationships/hyperlink" Target="http://www.nanking-massacre.com/RAPE_OF_NANKING_OR_NANJING_MASSACRE_1937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Rape of Nank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Brooke Mo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Hart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December of 1937, the Japanese Imperial Army marched into China's capital city of Nanking and proceeded to murder 300,000 out of 600,000 civilians and soldiers in the c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x weeks of carnage would become known as the Rape of Nan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ngle worst atrocity during the World War II era in either the European or Pacific theaters of w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ving already captured China's Manchurian region (1931) and Jehol province (1933), the Japanese were waiting for a pretext to invade and occupy the whole of China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July 1937, the tensions between Chinese troops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panese troops engaged in military exercises on occupi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inese territory made an exchange of firing near Peking (now Beijing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Japanese used this incident as an excuse to wage all out war against chi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757520" cy="22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66880" y="4114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aining new Sold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571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2762280" cy="1913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467480" y="42670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actice kil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9528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ad Bab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971800" cy="1860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38862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listverse.files.wordpress.com/2008/08/nanking-massacre-rape-of-nanking-killing-children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259056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34320" y="1828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people were killed at downtow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28954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361960" cy="1863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95480" y="4419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killed bod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0292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nanking-massacre.com/RAPE_OF_NANKING_OR_NANJING_MASSACRE_1937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449892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0" y="4495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urying people al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history.ucsb.edu/faculty/marcuse/classes/133p/133p04papers/133p04papimg/NanjingBuriedAlive400pxh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Detail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ened in a period of 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ternational Military Tribunal of the far east estimate 260,000 casu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4 days of fighting Japanese troops invaded into the city of December 13, 19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170028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46483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acticing Kil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6095880"/>
            <a:ext cx="2514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metroactive.com/papers/metro/12.12.96/gifs/china2-9650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they d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Japanese forced Chinese men to rape their own daughters, sons to rape their mothers, and brothers their sisters, while the rest of the family was made to w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gnant women were raped than had there stomach slit open and they torn out the fetu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d women over the age of 70 as well as girls under 8 were sexually abu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e than 20,000-80,000 females were ganged raped by Japanese soldiers than stabbed to death with bayon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Japanese forced the Chinese to bury each other alive in the di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en.wikipedia.org/wiki/Nanking_Massacre\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historyplace.com/worldhistory/genocide/nanking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nanking-massacre.com/RAPE_OF_NANKING_OR_NANJING_MASSACRE_1937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8:56:16Z</dcterms:created>
  <dc:creator>12206</dc:creator>
  <dc:description/>
  <dc:language>en-US</dc:language>
  <cp:lastModifiedBy>12206</cp:lastModifiedBy>
  <dcterms:modified xsi:type="dcterms:W3CDTF">2009-12-14T19:08:05Z</dcterms:modified>
  <cp:revision>5</cp:revision>
  <dc:subject/>
  <dc:title>Slide 1</dc:title>
</cp:coreProperties>
</file>